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572B-9598-4054-9F24-789919C60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32D7-C1DE-4F78-87E2-4D2AC7D9D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FC73-6F29-4F46-AD9A-60FF1094B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77EA-1028-4D73-BAF0-612FB5FAE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AAF24-2BD5-460A-9574-07B9EA683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8D18F-78A5-43F7-980D-029FD55FC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70524-3BE5-4BCA-A863-48D63F59A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D1AAB-D5C2-4E58-A985-886A25550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89BE8-39D6-4E02-85C8-7D886FF19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118DE-E8C4-482F-AD16-33C5F6944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47635-7EF2-437A-AE65-E9F957A20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80C5-B788-4367-B20A-D9154EB1D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9ACCF-5702-4DB5-9BCD-93FB53F85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7838F-C67E-496C-AC34-D6DDF79B5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3C414-F0E9-4116-A2A2-FEE2C702D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5F165-1C40-47E8-B7EB-3B09A75F2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3A0D4-616A-44C3-8506-4C3ED7588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76A1-C5D1-422E-A3BF-7B4C5D7BE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2D49-03E2-4619-B649-00ECD9C7E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ED3A-B364-4E4D-A11D-78BAC1583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FE0A-AF69-4101-B120-A6370467A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D503-0A8C-462F-8B83-CE2533532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F5A5-305E-4F90-9031-ED4801518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1A71-677D-4DC9-8372-F237D3509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0D7AD-B6D5-45A1-A1FE-ABFF2228CD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516B6-CAB7-454E-99CD-ECAA38A26C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Warm-Up Sentenc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til 1892 all professional boxing matches was slugged out with bear fists – no glo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lliam a cummings through the first curveball in Baseball history in 186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Journal #11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29528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ontaneous Writing: Pineapp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Warm-Up Sentenc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you set out to fail, writes John Holt in his book, How Children Fail, one thing it certain – you cant be dissappointed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ough banks may supply “virtual” money in the form of on-line cash the det my dear is all to re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Journal #12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21932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you could travel to any time period in history, where would you go and wh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Friday Warm-up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28600" y="190512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y words in the English language are spelled very differently from the way they’re pronounced.  For instance, the word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uchsi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pronounced “fyoosha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vent spellings for the following words that reflect the way they’re actually pronounced: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hoir, psycho, hymn, knight, myrr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do you think are the dictionary spellings for the words that are pronounced as the following: “skool,” “skeem,” “ruff,” “lepurd,” “skitsofrenia”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3T16:43:37Z</dcterms:created>
  <dc:creator>tpagel</dc:creator>
  <dc:description/>
  <dc:language>en-US</dc:language>
  <cp:lastModifiedBy>tpagel</cp:lastModifiedBy>
  <dcterms:modified xsi:type="dcterms:W3CDTF">2010-06-03T16:44:04Z</dcterms:modified>
  <cp:revision>1</cp:revision>
  <dc:subject/>
  <dc:title>Warm-Up Sentences</dc:title>
</cp:coreProperties>
</file>